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0C9-863F-42F6-A561-2E0781B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2A6-A056-4765-91F1-D424A6DE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CEC-4B48-4FE8-965E-0A8A112B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6EE-5EDA-425B-88E5-B8BCF62F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F81-721C-4702-BD4C-52A9B77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A21-C0E7-414C-8CE0-CA8D0CA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43B-0763-47AD-AA55-78A204D2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B78-F048-450B-9C06-9F26E14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854-37B6-42B0-B4D1-6AA6ACBC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417-A5A4-4D77-82BF-F501388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D7-E01C-465F-B186-671A3AF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C75-EB55-473A-A177-C3C1D7B1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3C7-0E1B-4DFE-9931-5D15A90455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each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ee tent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ε πληθος ἐπι τῳ ὀρει αἰτησει την παρακλησιν ἀπο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ἠ π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28.18-2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s been giv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ορευθέντ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ὖν μαθητεύσατε [μαθητευω = μαθητης ποιω] πάντα τὰ ἔθνη, βαπτίζοντες αὐτοὺ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omm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omple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9-03-02T17:57:44Z</dcterms:modified>
  <cp:revision>18</cp:revision>
  <dc:subject/>
  <dc:title>Slide 1</dc:title>
</cp:coreProperties>
</file>